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5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9ACA-CF38-4E3C-A841-051038061CE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73F6-5B7D-4961-BE86-A1C2A87FC62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-2341440" y="1276200"/>
            <a:ext cx="11309400" cy="848232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99920" y="609480"/>
            <a:ext cx="55400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ED5-D939-413B-9364-14ADDC47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DED-7DC8-4F8B-BC49-416DB466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597-3D82-4372-A522-3CD5A166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1A4-EB73-46AA-ADEE-03EE68EA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3D5-6733-4F0B-BCF2-21B15AF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BDE-2EC0-4E2E-B553-21A7E627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667-9626-4E61-822D-91F5A867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28E0-C144-4339-A4F3-9E437599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83E-D322-481F-BA77-599E376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EDEF-D0B3-4201-8EA5-2A8E4ED6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663-91A8-4982-8940-EF62D12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10B-D563-4FB9-97A2-E5701476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7AA-1481-48DD-8FD7-3C0E1A71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21E2-4A9B-4B1F-9A13-4299632C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CD2-8DCB-43D6-A5B0-7143854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8870-1352-4412-BCE0-A62087F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6726-7724-4705-93F1-10644A5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E9B-666E-4535-B89E-5CEA5FE7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4A5-E455-40BA-884D-0142BC37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4CE-005F-46E5-9EA5-6AADCFB5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45B-54A7-4EA2-AE6D-27BB74FF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0EA-1E69-4669-83BB-819CBBC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691-A89D-4F0F-8125-E5A99FA6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85F-F21C-40C8-9A58-3277EA8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86320" y="645156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ocionek  </a:t>
            </a: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2006/0</a:t>
            </a:r>
            <a:r>
              <a:rPr b="0" lang="de-DE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3</a:t>
            </a: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/</a:t>
            </a:r>
            <a:r>
              <a:rPr b="0" lang="de-DE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31</a:t>
            </a: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 # </a:t>
            </a:r>
            <a:fld id="{11C3D33E-24CB-4E93-AE3A-05B62BD02EBA}" type="slidenum"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31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5286FC3D-2518-4D61-BCD6-4FC0A300A30F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492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50760"/>
            <a:ext cx="82310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15740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6622920"/>
            <a:ext cx="853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1e0a63"/>
                </a:solidFill>
                <a:latin typeface="Arial"/>
              </a:rPr>
              <a:t>BenQ 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Confidential </a:t>
            </a:r>
            <a:r>
              <a:rPr b="0" lang="zh-TW" sz="9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2006, BenQ Mobile – Product House Europe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 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 </a:t>
            </a:r>
            <a:fld id="{C60EF66A-0574-44F5-88A8-D799411514D8}" type="slidenum">
              <a:rPr b="0" lang="en-US" sz="900" spc="-1" strike="noStrike">
                <a:solidFill>
                  <a:srgbClr val="1e0a63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234200" y="71280"/>
            <a:ext cx="169560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DRAFT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F1E8-0640-4D73-A802-3DCEDA4BC698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AA2F8F2A-A4A3-4194-A6D6-5A64E2429F13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9680" y="4981680"/>
            <a:ext cx="457200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arch 31t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680" y="2451240"/>
            <a:ext cx="73357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Quo Vadis R&amp;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The Way to PLM Excel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and Enjoyment in R&amp;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2nd All Hands Meeting of PH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1FE-8723-42E9-8EB2-003F8BDD57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330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334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338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Status PLM-Excellence Projec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ECA-C7F4-4C9B-A44D-2D0462A30C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3360" y="5708520"/>
            <a:ext cx="8810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6600" y="1989000"/>
            <a:ext cx="799920" cy="1368720"/>
          </a:xfrm>
          <a:custGeom>
            <a:avLst/>
            <a:gdLst>
              <a:gd name="textAreaLeft" fmla="*/ 0 w 799920"/>
              <a:gd name="textAreaRight" fmla="*/ 800280 w 79992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-93240" y="2601720"/>
            <a:ext cx="1274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24000" y="3357720"/>
            <a:ext cx="799920" cy="1368000"/>
            <a:chOff x="324000" y="3357720"/>
            <a:chExt cx="799920" cy="1368000"/>
          </a:xfrm>
        </p:grpSpPr>
        <p:sp>
          <p:nvSpPr>
            <p:cNvPr id="351" name=""/>
            <p:cNvSpPr/>
            <p:nvPr/>
          </p:nvSpPr>
          <p:spPr>
            <a:xfrm>
              <a:off x="324000" y="3417120"/>
              <a:ext cx="799920" cy="12488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248840"/>
                <a:gd name="textAreaBottom" fmla="*/ 1249200 h 12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-152640" y="3945600"/>
              <a:ext cx="1368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168560" y="47847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174312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9560" y="1743120"/>
            <a:ext cx="143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36000" y="1743120"/>
            <a:ext cx="130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5680" y="5924520"/>
            <a:ext cx="86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12320" y="5935680"/>
            <a:ext cx="158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92800" y="591012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12440" y="59356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68436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96360" y="11592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Expand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1268280"/>
            <a:ext cx="16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00720" y="6237360"/>
            <a:ext cx="1297080" cy="476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be det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5720" y="593568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19680" y="1319040"/>
            <a:ext cx="7621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Get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63520" y="2133720"/>
            <a:ext cx="225612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Sales Margin+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WE Sale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Improve Asia, EE and LAM Market Intim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66960" y="237960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72360" y="235584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34704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4000" y="4703760"/>
            <a:ext cx="799920" cy="1172880"/>
            <a:chOff x="324000" y="4703760"/>
            <a:chExt cx="799920" cy="1172880"/>
          </a:xfrm>
        </p:grpSpPr>
        <p:sp>
          <p:nvSpPr>
            <p:cNvPr id="379" name=""/>
            <p:cNvSpPr/>
            <p:nvPr/>
          </p:nvSpPr>
          <p:spPr>
            <a:xfrm>
              <a:off x="324000" y="4754880"/>
              <a:ext cx="799920" cy="1070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-55080" y="5194080"/>
              <a:ext cx="1172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4880" y="784080"/>
            <a:ext cx="375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  <a:ea typeface="文鼎中黑"/>
              </a:rPr>
              <a:t>BenQ mobile turnaround Master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35280" y="393552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50734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5361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63520" y="3567240"/>
            <a:ext cx="225612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PLM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CTM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Mobiliz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Bridge alignment</a:t>
            </a:r>
            <a:br>
              <a:rPr sz="1400"/>
            </a:b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dev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63520" y="5084640"/>
            <a:ext cx="22561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Improve cost 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Improve product cost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7440" y="1062000"/>
            <a:ext cx="55800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H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08360" y="26240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59720" y="26589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4360" y="2465280"/>
            <a:ext cx="2519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08360" y="28702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67640" y="289080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51280" y="239544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72240" y="368784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48000" y="364500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59640" y="44895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45291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1960" y="37162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348000" y="4003200"/>
            <a:ext cx="4464000" cy="1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87760" y="38606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38606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08400" y="4221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72240" y="424332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17960" y="42958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64000" y="3789360"/>
            <a:ext cx="32400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67640" y="38829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19640" y="4365720"/>
            <a:ext cx="33130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0720" y="422100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7162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4581360"/>
            <a:ext cx="2952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81440" y="4495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0720" y="44816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5157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72240" y="50673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7760" y="50720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92360" y="508464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08360" y="544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72240" y="53229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0" y="537516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53006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27828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43400" y="26370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67360" y="26701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298440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286848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33960" y="29448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Arial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660066"/>
                </a:solidFill>
                <a:latin typeface="Arial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233352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7280" y="27241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04240" y="27241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152280"/>
            <a:ext cx="83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Starting Point: The BenQ Turnaroun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A1A-A11A-4555-AB58-2F5244325D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79280" y="4508640"/>
            <a:ext cx="871380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440" y="115560"/>
            <a:ext cx="87631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gram „PLM Excellence“: </a:t>
            </a:r>
            <a:r>
              <a:rPr b="1" lang="en-US" sz="2400" spc="-1" strike="noStrike">
                <a:solidFill>
                  <a:srgbClr val="3a0e66"/>
                </a:solidFill>
                <a:latin typeface="Arial Unicode MS"/>
              </a:rPr>
              <a:t>Driver Tre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2492280"/>
            <a:ext cx="87012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280" y="1341360"/>
            <a:ext cx="87138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986440" y="4597560"/>
            <a:ext cx="1227240" cy="760320"/>
            <a:chOff x="5986440" y="4597560"/>
            <a:chExt cx="1227240" cy="760320"/>
          </a:xfrm>
        </p:grpSpPr>
        <p:sp>
          <p:nvSpPr>
            <p:cNvPr id="443" name=""/>
            <p:cNvSpPr/>
            <p:nvPr/>
          </p:nvSpPr>
          <p:spPr>
            <a:xfrm>
              <a:off x="5999040" y="4597560"/>
              <a:ext cx="116928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6440" y="471888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latform &amp; Portfol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108160" y="4597560"/>
            <a:ext cx="1154160" cy="760320"/>
            <a:chOff x="2108160" y="4597560"/>
            <a:chExt cx="1154160" cy="760320"/>
          </a:xfrm>
        </p:grpSpPr>
        <p:sp>
          <p:nvSpPr>
            <p:cNvPr id="446" name=""/>
            <p:cNvSpPr/>
            <p:nvPr/>
          </p:nvSpPr>
          <p:spPr>
            <a:xfrm>
              <a:off x="2108160" y="4597560"/>
              <a:ext cx="115416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52800" y="4735440"/>
              <a:ext cx="105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odel – V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25600" y="4597560"/>
            <a:ext cx="1458720" cy="899640"/>
            <a:chOff x="525600" y="4597560"/>
            <a:chExt cx="1458720" cy="899640"/>
          </a:xfrm>
        </p:grpSpPr>
        <p:sp>
          <p:nvSpPr>
            <p:cNvPr id="449" name=""/>
            <p:cNvSpPr/>
            <p:nvPr/>
          </p:nvSpPr>
          <p:spPr>
            <a:xfrm>
              <a:off x="544680" y="4597560"/>
              <a:ext cx="1439640" cy="75996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5600" y="4646160"/>
              <a:ext cx="14400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IC –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st in class tools &amp; auto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359160" y="4597560"/>
            <a:ext cx="1301400" cy="885600"/>
            <a:chOff x="3359160" y="4597560"/>
            <a:chExt cx="1301400" cy="885600"/>
          </a:xfrm>
        </p:grpSpPr>
        <p:sp>
          <p:nvSpPr>
            <p:cNvPr id="452" name=""/>
            <p:cNvSpPr/>
            <p:nvPr/>
          </p:nvSpPr>
          <p:spPr>
            <a:xfrm>
              <a:off x="3371760" y="4597560"/>
              <a:ext cx="128880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9160" y="4749840"/>
              <a:ext cx="1289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toty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gile w/ Sc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7250040" y="4603680"/>
            <a:ext cx="1440000" cy="76032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80360" y="458136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igh-performance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11440" y="1528920"/>
            <a:ext cx="1440000" cy="43164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8320" y="1527120"/>
            <a:ext cx="1440000" cy="432000"/>
          </a:xfrm>
          <a:prstGeom prst="rect">
            <a:avLst/>
          </a:prstGeom>
          <a:solidFill>
            <a:srgbClr val="f0ebff"/>
          </a:solidFill>
          <a:ln cap="rnd" w="93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09920" y="1528920"/>
            <a:ext cx="1440000" cy="431640"/>
          </a:xfrm>
          <a:prstGeom prst="rect">
            <a:avLst/>
          </a:prstGeom>
          <a:solidFill>
            <a:srgbClr val="f0ebff"/>
          </a:solidFill>
          <a:ln cap="rnd" w="93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33800" y="836640"/>
            <a:ext cx="2232000" cy="43164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21000" y="83664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PLM Excell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3920" y="1484280"/>
            <a:ext cx="148608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sts lower th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the 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97040" y="1486080"/>
            <a:ext cx="147024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faster than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09920" y="1484280"/>
            <a:ext cx="151308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better than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2000" y="1484280"/>
            <a:ext cx="143964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oler than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4360" y="2565360"/>
            <a:ext cx="158400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28386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TC success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3573360"/>
            <a:ext cx="1333440" cy="790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9360" y="3386160"/>
            <a:ext cx="133488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573360"/>
            <a:ext cx="1334880" cy="792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89360" y="3500280"/>
            <a:ext cx="1335240" cy="792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29360" y="3386160"/>
            <a:ext cx="1335240" cy="792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27360" y="2565360"/>
            <a:ext cx="1584360" cy="863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2708280"/>
            <a:ext cx="1297080" cy="7207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28386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 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48120" y="2824200"/>
            <a:ext cx="131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CC redu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23280" y="2492280"/>
            <a:ext cx="1368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2e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2540160"/>
            <a:ext cx="136836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rust &amp; re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9360" y="370188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cation/skill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49600" y="3573360"/>
            <a:ext cx="129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igher platform re-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18040" y="3716280"/>
            <a:ext cx="12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ess requirement vola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19600" y="354816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ess defects/r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13520" y="3473280"/>
            <a:ext cx="136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turity/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042920" y="1982880"/>
            <a:ext cx="936720" cy="642600"/>
            <a:chOff x="1042920" y="1982880"/>
            <a:chExt cx="936720" cy="642600"/>
          </a:xfrm>
        </p:grpSpPr>
        <p:sp>
          <p:nvSpPr>
            <p:cNvPr id="484" name=""/>
            <p:cNvSpPr/>
            <p:nvPr/>
          </p:nvSpPr>
          <p:spPr>
            <a:xfrm>
              <a:off x="1836720" y="2060640"/>
              <a:ext cx="142920" cy="216000"/>
            </a:xfrm>
            <a:prstGeom prst="downArrow">
              <a:avLst>
                <a:gd name="adj1" fmla="val 50000"/>
                <a:gd name="adj2" fmla="val 3778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42920" y="198288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844720" y="1989000"/>
            <a:ext cx="935280" cy="642600"/>
            <a:chOff x="2844720" y="1989000"/>
            <a:chExt cx="935280" cy="642600"/>
          </a:xfrm>
        </p:grpSpPr>
        <p:sp>
          <p:nvSpPr>
            <p:cNvPr id="487" name=""/>
            <p:cNvSpPr/>
            <p:nvPr/>
          </p:nvSpPr>
          <p:spPr>
            <a:xfrm>
              <a:off x="3637080" y="2060640"/>
              <a:ext cx="142920" cy="216000"/>
            </a:xfrm>
            <a:prstGeom prst="upArrow">
              <a:avLst>
                <a:gd name="adj1" fmla="val 50000"/>
                <a:gd name="adj2" fmla="val 3778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44720" y="1989000"/>
              <a:ext cx="74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364000" y="2060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27640" y="19890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2604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96800" y="2276280"/>
            <a:ext cx="4032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18728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1402920" y="342900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700360" y="321300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3850920" y="335736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500720" y="386028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1618920" y="234936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979640" y="2276280"/>
            <a:ext cx="302400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3203280" y="2349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4211280" y="321300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4211640" y="3156120"/>
            <a:ext cx="194472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076720" y="3257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6129360" y="3128760"/>
            <a:ext cx="60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122400" y="1407600"/>
            <a:ext cx="8506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92160" y="2565360"/>
            <a:ext cx="51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KPI‘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92160" y="4652640"/>
            <a:ext cx="850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92040" y="2944800"/>
            <a:ext cx="51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SPI‘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140360" y="2349000"/>
            <a:ext cx="57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5148000" y="2421000"/>
            <a:ext cx="260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562040" y="393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87640" y="39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64440" y="2060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71640" y="3068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DTC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32000" y="3083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OTD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67360" y="30812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FPY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72360" y="3890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CMMI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32360" y="3933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FPY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76440" y="4076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FPY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0920" y="635328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SPI = Soft Performance Indicators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DTC = Design to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92360" y="6353280"/>
            <a:ext cx="208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FPY = First pass y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NCC = Non Conformance Co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2000" y="6353280"/>
            <a:ext cx="1944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OTD = On Time 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PLM = Product Lifecycle Mgm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41360" y="5445000"/>
            <a:ext cx="8592840" cy="576360"/>
            <a:chOff x="441360" y="5445000"/>
            <a:chExt cx="8592840" cy="576360"/>
          </a:xfrm>
        </p:grpSpPr>
        <p:sp>
          <p:nvSpPr>
            <p:cNvPr id="524" name=""/>
            <p:cNvSpPr/>
            <p:nvPr/>
          </p:nvSpPr>
          <p:spPr>
            <a:xfrm>
              <a:off x="531360" y="5445000"/>
              <a:ext cx="8187480" cy="57636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360" y="5536800"/>
              <a:ext cx="8592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476360" y="5373720"/>
            <a:ext cx="8713800" cy="792000"/>
            <a:chOff x="1476360" y="5373720"/>
            <a:chExt cx="8713800" cy="792000"/>
          </a:xfrm>
        </p:grpSpPr>
        <p:sp>
          <p:nvSpPr>
            <p:cNvPr id="527" name=""/>
            <p:cNvSpPr/>
            <p:nvPr/>
          </p:nvSpPr>
          <p:spPr>
            <a:xfrm>
              <a:off x="1476360" y="5373720"/>
              <a:ext cx="87138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21080" y="5756040"/>
              <a:ext cx="8442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84320" indent="-184320">
                <a:lnSpc>
                  <a:spcPct val="120000"/>
                </a:lnSpc>
                <a:tabLst>
                  <a:tab algn="l" pos="0"/>
                  <a:tab algn="l" pos="932040"/>
                  <a:tab algn="l" pos="1863720"/>
                  <a:tab algn="l" pos="2795760"/>
                  <a:tab algn="l" pos="3727440"/>
                  <a:tab algn="l" pos="4659480"/>
                  <a:tab algn="l" pos="5591160"/>
                  <a:tab algn="l" pos="6523200"/>
                  <a:tab algn="l" pos="7454880"/>
                  <a:tab algn="l" pos="8386920"/>
                  <a:tab algn="l" pos="9318600"/>
                  <a:tab algn="l" pos="1025064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lear goals &amp; responsibilities – concrete actions – definite con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9200" y="5386320"/>
              <a:ext cx="53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             </a:t>
              </a:r>
              <a:r>
                <a:rPr b="1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mmunication: Let‘s talk about i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963800" y="3924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ratio 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7720" y="4140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ratio 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741920" y="4597560"/>
            <a:ext cx="1227240" cy="760320"/>
            <a:chOff x="4741920" y="4597560"/>
            <a:chExt cx="1227240" cy="760320"/>
          </a:xfrm>
        </p:grpSpPr>
        <p:sp>
          <p:nvSpPr>
            <p:cNvPr id="533" name=""/>
            <p:cNvSpPr/>
            <p:nvPr/>
          </p:nvSpPr>
          <p:spPr>
            <a:xfrm>
              <a:off x="4754520" y="4597560"/>
              <a:ext cx="116928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41920" y="471888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st in Test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197760" y="2521080"/>
            <a:ext cx="1296720" cy="7207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86600" y="26370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ven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05480" y="2894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#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84864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508640"/>
            <a:ext cx="871380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EFB-709C-4E33-A962-55C16C8EC63B}" type="slidenum">
              <a:t>13</a:t>
            </a:fld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309600" y="343080"/>
          <a:ext cx="8628120" cy="67672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Uniform</a:t>
                      </a: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Commu-nication in R&amp;D;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Bocione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ongo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stablish regular all hands communication (Jan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ngange in breakfast club and other activities (start Feb 06) – Invitation is out for 5-Apr-063. NEW: Include PHA R&amp;D in those activities after the PHE/PHA merge (start April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First alignment meetings with PHA R&amp;D 23/24 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High-performing culture &amp; commitment-driven behavior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ocionek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tart: Jan 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End: Dec 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repeat every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QA March 06</a:t>
                      </a: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 rot="16200000">
            <a:off x="5959440" y="133956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6169680" y="156708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7080" y="3560760"/>
            <a:ext cx="3373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. KPI metrics (Jan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2. Mgmt Objectives aligned and signed (Feb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3. Balanced Score cards (F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06, moved to Apr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4. LQA analysis (R&amp;D on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May 06; moved to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4b. opinion poll poss. in 2Q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5. Peer Rating in Mgmt (R&amp;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only; Sept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6. 10 Basic Aspects (Oct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7. Feedback rounds, EFA (Nov/Dec 0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5959440" y="428580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6169680" y="451404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45A-3462-4F23-84D2-1F70DDFBC6D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09600" y="343080"/>
          <a:ext cx="8628120" cy="38908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Real Model-V: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troduce process culture and discipline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s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tart: Jan 06   End: Sep 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Feb. 06) – M. Ass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ducation starts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ternal customer satisfaction metrics set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CIP targets set (Apr.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Process adaptations completed (Jun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MMI baseline available(Sep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First alignment meetings with PHA R&amp;D 23/24 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9" name=""/>
          <p:cNvGrpSpPr/>
          <p:nvPr/>
        </p:nvGrpSpPr>
        <p:grpSpPr>
          <a:xfrm>
            <a:off x="5749920" y="1634760"/>
            <a:ext cx="600120" cy="182520"/>
            <a:chOff x="5749920" y="1634760"/>
            <a:chExt cx="600120" cy="182520"/>
          </a:xfrm>
        </p:grpSpPr>
        <p:sp>
          <p:nvSpPr>
            <p:cNvPr id="550" name=""/>
            <p:cNvSpPr/>
            <p:nvPr/>
          </p:nvSpPr>
          <p:spPr>
            <a:xfrm rot="16200000">
              <a:off x="5958720" y="14259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6200000">
              <a:off x="6054840" y="1652400"/>
              <a:ext cx="106200" cy="147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B03-9A52-4C37-B3DB-030CF8DBEB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9600" y="343080"/>
          <a:ext cx="8628120" cy="649404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Minion"/>
                          <a:ea typeface="文鼎中黑"/>
                        </a:rPr>
                        <a:t>Going Agile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 U.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Minion"/>
                          <a:ea typeface="文鼎中黑"/>
                        </a:rPr>
                        <a:t>Schmit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, Faessler, Rudol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: Jan 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End: Dec 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repeat every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oritize and start processing transition back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rt decomposing architecture of Ruby with OM on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volve Agile in ‚Fit 4 Apoxi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2467080" y="1122480"/>
            <a:ext cx="3373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. Kick-off for selected projects (01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2.   2. Broad Introduction of Methodology (0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3. Start Ruby on Agile (0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4. Setup transition team (0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5. Mentoring by OM starts (03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6. Create prioritized transition backlog and transition plan (03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7. Start Gemstone project on Agile (03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8. Scrum teams and sprint planning of pilots established (05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9. Pilot teams trained for TDD and agile principles (06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0. New R&amp;D process for Agile development released (09/06) – proposal in 07/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1. Start full transition program (09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2. Organization prepared for full agile transition (1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5959440" y="325728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6169680" y="348480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3F9-2AB4-45D8-B2E2-4A5CB24A0F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09600" y="343080"/>
          <a:ext cx="8628120" cy="655776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5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Best-in-Test:</a:t>
                      </a: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Wack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; continue measur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1 First metric setup: Feb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2 – 1.5 complete metrics set up (e.g. defect injection analysis) (May 06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Roll out “new bugs after S4” metric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Test cases for TDD in scrum team in time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Roll out “changed LOC” metric after C3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Roll out “first pass yield” metric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KPI targets ST based on metrics data (Jun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tailled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urther alignment with Q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Minion"/>
                          <a:ea typeface="文鼎中黑"/>
                        </a:rPr>
                        <a:t>Best-in-IT to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Minion"/>
                          <a:ea typeface="文鼎中黑"/>
                        </a:rPr>
                        <a:t>Leader: 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a0e66"/>
                          </a:solidFill>
                          <a:uFillTx/>
                          <a:latin typeface="Minion"/>
                          <a:ea typeface="文鼎中黑"/>
                        </a:rPr>
                        <a:t>Start: Jan 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a0e66"/>
                          </a:solidFill>
                          <a:uFillTx/>
                          <a:latin typeface="Minion"/>
                          <a:ea typeface="文鼎中黑"/>
                        </a:rPr>
                        <a:t>End: Jun 06; continue measuring</a:t>
                      </a: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Arial Unicode MS"/>
                          <a:ea typeface="文鼎中黑"/>
                        </a:rPr>
                        <a:t>Project lead change to H. Thonhauser (acting); re-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 rot="16200000">
            <a:off x="5959440" y="194904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6169680" y="217728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81600" y="5567040"/>
            <a:ext cx="600120" cy="182520"/>
            <a:chOff x="5781600" y="5567040"/>
            <a:chExt cx="600120" cy="182520"/>
          </a:xfrm>
        </p:grpSpPr>
        <p:sp>
          <p:nvSpPr>
            <p:cNvPr id="562" name=""/>
            <p:cNvSpPr/>
            <p:nvPr/>
          </p:nvSpPr>
          <p:spPr>
            <a:xfrm rot="16200000">
              <a:off x="5990400" y="53582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5851440" y="5584680"/>
              <a:ext cx="106200" cy="147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467080" y="4751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1. Project Plan (Feb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2. Consolidate all team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PLM (Mar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3. Start centralizing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infra-structure (Mar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4. Increase autom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tool chain (Jul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028-F026-4289-AD33-DD5F10EDD7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09600" y="343080"/>
          <a:ext cx="8628120" cy="634032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1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Invent the futu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auregge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Hartman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nd: Ju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gree on invention disclosure targets (Jan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Start invention initiative (Feb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Implement incentive proposal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90 invention disclosures filed (Jul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180 invention disclosures filed (Dec 06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aunch initiative (Feb 06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Platform &amp; Portfolio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B + J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rtfolio / Roadmap vs R&amp;D budget alignment underway in March 0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 rot="16200000">
            <a:off x="5959440" y="136476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169680" y="159300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67080" y="3710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1. Define alignment &amp;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mgmt process (Feb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2. clarify platform respons.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activities (Feb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2b. NEW: portfolio – 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alignment (Mar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3. define re-use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(Mar 06) will become Apr 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645-95B6-4C33-93A4-FE543B7EC74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9600" y="343080"/>
          <a:ext cx="8628120" cy="65512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1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cleanApoxi platfor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End: Dec 06 (perhaps earlier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lign all parties incl. IFX, Teleca (Feb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Analysis worksh/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iamond decision (Mar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ublish formal platform concept, incl. technic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pecification and usage model (Ap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Start skills enhancement program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lose gaps in Apoxi (tbd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First Apoxi product (tbd; hopefully Apr 07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shop (start 05-Mar-06), Diamond decision (latest EO March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U2 projects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, Rudolp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End: Mar 06; continue from the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pract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 dedica-ted U2 project control room M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able team spirit and competition from reported results (03/20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 rot="16200000">
            <a:off x="5959440" y="136476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6169680" y="159300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67080" y="4510080"/>
            <a:ext cx="328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. Establish weekly reporting of commitment and fulfillment (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. Utilize reporting charts as project/PL control methods (02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. Enable team spirit and competition from reported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5959440" y="6267240"/>
            <a:ext cx="18072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6200000">
            <a:off x="6169680" y="649476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68A-CF66-41B6-BCA4-E0EC7F0C00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Out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Feedback to 1st All Hands Meet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BenQ Highligh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Status PLM Excellence progr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Combination of PHA and PH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Q&amp;A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A2C-5EF8-450B-B2AD-96D6C3649F6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09600" y="343080"/>
          <a:ext cx="8628120" cy="33796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Quality Up of M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Thonhauser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nd: Jun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LM MD excellence program and KPI‘s (Jan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mprovement project starts (Feb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Visible results (Jul 06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ck monthly KPI‘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rot="16200000">
            <a:off x="5959440" y="191088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6169680" y="213912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320" y="4057560"/>
            <a:ext cx="666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To come so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„</a:t>
            </a:r>
            <a:r>
              <a:rPr b="0" lang="de-DE" sz="2000" spc="-1" strike="noStrike">
                <a:solidFill>
                  <a:srgbClr val="cc0000"/>
                </a:solidFill>
                <a:latin typeface="Arial"/>
                <a:ea typeface="文鼎中黑"/>
              </a:rPr>
              <a:t>Best-in-class requirement engineering</a:t>
            </a: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“ (led by CM/C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Future Reporting in R&amp;D All Hand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Selected PLM-excellence projects shar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DB6-BE64-43C9-B903-21CC3CB810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7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Combination of PHA and PH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DE5-834F-4FD7-B4F7-3AFB3F3098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79280" y="-25488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589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593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597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601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A2F-F61A-4F3A-A122-D7B0C0A3585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79280" y="-25488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BMG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2120" y="987480"/>
            <a:ext cx="6297840" cy="278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633-5348-4D16-A0DC-ABB3B287E5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79280" y="-25488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9320" y="2109960"/>
            <a:ext cx="8104320" cy="126036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6280" y="2109960"/>
            <a:ext cx="2355840" cy="1260360"/>
          </a:xfrm>
          <a:custGeom>
            <a:avLst/>
            <a:gdLst>
              <a:gd name="textAreaLeft" fmla="*/ 0 w 2355840"/>
              <a:gd name="textAreaRight" fmla="*/ 2356200 w 235584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BMG PH 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Research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86160" y="2073240"/>
            <a:ext cx="6297480" cy="32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Increased efficiency – reuse of technologies &amp; higher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Clearer program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More speed and market flexibility than totally central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Global systems &amp; software architecture, predevelopments &amp;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Developing global platfo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-  Alignment needs on system concept an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03E-EC28-4E79-9E72-9859F2E376B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144000"/>
            <a:ext cx="6747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5" name=""/>
          <p:cNvSpPr/>
          <p:nvPr/>
        </p:nvSpPr>
        <p:spPr>
          <a:xfrm>
            <a:off x="7470720" y="3451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14720" y="1228680"/>
            <a:ext cx="469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Minion"/>
              </a:rPr>
              <a:t>Jochen Eickholt &amp; Irwin 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66840" y="2111400"/>
            <a:ext cx="8417880" cy="2626560"/>
            <a:chOff x="366840" y="2111400"/>
            <a:chExt cx="8417880" cy="2626560"/>
          </a:xfrm>
        </p:grpSpPr>
        <p:sp>
          <p:nvSpPr>
            <p:cNvPr id="619" name=""/>
            <p:cNvSpPr/>
            <p:nvPr/>
          </p:nvSpPr>
          <p:spPr>
            <a:xfrm>
              <a:off x="366840" y="2111400"/>
              <a:ext cx="2005560" cy="26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11000" y="2111400"/>
              <a:ext cx="2009520" cy="2626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ion"/>
                </a:rPr>
                <a:t>PH 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Research &amp;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Siegfried Bocion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Yungchia Le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(depu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32120" y="2111400"/>
              <a:ext cx="2005920" cy="26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0960" y="2111400"/>
              <a:ext cx="2003760" cy="26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Bernd Schm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3" name=""/>
          <p:cNvCxnSpPr>
            <a:stCxn id="616" idx="2"/>
            <a:endCxn id="619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6" idx="2"/>
            <a:endCxn id="620" idx="0"/>
          </p:cNvCxnSpPr>
          <p:nvPr/>
        </p:nvCxnSpPr>
        <p:spPr>
          <a:xfrm rot="5400000">
            <a:off x="3876120" y="1405080"/>
            <a:ext cx="327600" cy="1048320"/>
          </a:xfrm>
          <a:prstGeom prst="bentConnector3">
            <a:avLst>
              <a:gd name="adj1" fmla="val 52805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6" idx="2"/>
            <a:endCxn id="621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16" idx="2"/>
            <a:endCxn id="622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09760" y="504036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PMingLiU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PMingLiU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0600" y="491508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FF7-813E-42AD-A069-8E24E961168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8920" y="-254880"/>
            <a:ext cx="823140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632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635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ffffff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672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D84-1DBA-469C-AFC5-0DA631BD99D4}" type="slidenum">
              <a:t>26</a:t>
            </a:fld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28880" y="1935000"/>
            <a:ext cx="7726320" cy="787680"/>
          </a:xfrm>
          <a:custGeom>
            <a:avLst/>
            <a:gdLst>
              <a:gd name="textAreaLeft" fmla="*/ 0 w 7726320"/>
              <a:gd name="textAreaRight" fmla="*/ 7726680 w 772632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4360" y="1743120"/>
            <a:ext cx="792000" cy="11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15920" y="3078000"/>
            <a:ext cx="7726320" cy="787680"/>
          </a:xfrm>
          <a:custGeom>
            <a:avLst/>
            <a:gdLst>
              <a:gd name="textAreaLeft" fmla="*/ 0 w 7726320"/>
              <a:gd name="textAreaRight" fmla="*/ 7726680 w 772632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03320" y="4284720"/>
            <a:ext cx="7726320" cy="787320"/>
          </a:xfrm>
          <a:custGeom>
            <a:avLst/>
            <a:gdLst>
              <a:gd name="textAreaLeft" fmla="*/ 0 w 7726320"/>
              <a:gd name="textAreaRight" fmla="*/ 7726680 w 772632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72600" y="201240"/>
            <a:ext cx="82314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600" spc="-1" strike="noStrike">
                <a:solidFill>
                  <a:srgbClr val="3a0e66"/>
                </a:solidFill>
                <a:latin typeface="Minion"/>
              </a:rPr>
              <a:t>Why?  Synergies of (Platform) Re-Use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96360" y="2135160"/>
            <a:ext cx="901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360" y="2898720"/>
            <a:ext cx="792000" cy="11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58200" y="3279960"/>
            <a:ext cx="914400" cy="3294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4360" y="4054320"/>
            <a:ext cx="792000" cy="1181160"/>
          </a:xfrm>
          <a:custGeom>
            <a:avLst/>
            <a:gdLst>
              <a:gd name="textAreaLeft" fmla="*/ 0 w 792000"/>
              <a:gd name="textAreaRight" fmla="*/ 792360 w 7920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306720" y="4475880"/>
            <a:ext cx="973080" cy="3294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74720" y="1731960"/>
            <a:ext cx="914400" cy="43560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5564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66360" y="5381640"/>
            <a:ext cx="112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81360" y="2903400"/>
            <a:ext cx="914400" cy="32133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6228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42400" y="5372280"/>
            <a:ext cx="119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knowl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23080" y="4092480"/>
            <a:ext cx="914400" cy="19908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04000" y="527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33000" y="5329080"/>
            <a:ext cx="129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utiliz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97280" y="2890800"/>
            <a:ext cx="914400" cy="3225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820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98640" y="5372280"/>
            <a:ext cx="111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comp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713560" y="2890800"/>
            <a:ext cx="914400" cy="3225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64880" y="535788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tool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71920" y="1733400"/>
            <a:ext cx="914400" cy="43833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52840" y="5273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72280" y="2075040"/>
            <a:ext cx="9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of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29480" y="2903400"/>
            <a:ext cx="914400" cy="31845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1040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18520" y="5353200"/>
            <a:ext cx="133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produc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58240" y="539280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55280" y="2075040"/>
            <a:ext cx="9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Inn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71840" y="3195720"/>
            <a:ext cx="13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23400" y="432576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urch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05920" y="3071880"/>
            <a:ext cx="11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repea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46960" y="319572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sha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87560" y="3059280"/>
            <a:ext cx="9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inte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499160" y="4325760"/>
            <a:ext cx="13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f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20800" y="4325760"/>
            <a:ext cx="12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vo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49400" y="432576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re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infra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05280" y="4313160"/>
            <a:ext cx="11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co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77880" y="3281400"/>
            <a:ext cx="116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no rei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34480" y="4335480"/>
            <a:ext cx="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45640" y="3281400"/>
            <a:ext cx="98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stan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rdi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12600" y="4335480"/>
            <a:ext cx="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1356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FA6-6038-4597-92B7-E88465EC65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2560" y="50760"/>
            <a:ext cx="8931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ow can one organize R&amp;D: Three Possible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0720" y="1760400"/>
            <a:ext cx="119880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46360" y="1760400"/>
            <a:ext cx="119844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Proces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ools &amp; 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16080" y="1760400"/>
            <a:ext cx="70992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25920" y="1760400"/>
            <a:ext cx="119880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28960" y="1760400"/>
            <a:ext cx="70812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26000" y="1760400"/>
            <a:ext cx="70956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89880" y="1760400"/>
            <a:ext cx="88884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-336960" y="1214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"/>
              </a:rPr>
              <a:t>1. Totally Competence Center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061480" y="1760400"/>
            <a:ext cx="888840" cy="642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3680" y="3322800"/>
            <a:ext cx="119844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58960" y="3322800"/>
            <a:ext cx="119844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Proces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ools &amp; 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29040" y="3322800"/>
            <a:ext cx="70956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81600" y="3322800"/>
            <a:ext cx="119880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41920" y="3322800"/>
            <a:ext cx="70776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45200" y="3322800"/>
            <a:ext cx="88920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7840" y="2738520"/>
            <a:ext cx="87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"/>
              </a:rPr>
              <a:t>2. Competence Center Based except SW (is multiplied per plat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074080" y="3322800"/>
            <a:ext cx="888840" cy="642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68720" y="3525840"/>
            <a:ext cx="70992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03840" y="3411360"/>
            <a:ext cx="70956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38600" y="3322800"/>
            <a:ext cx="70956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7840" y="4389480"/>
            <a:ext cx="88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"/>
              </a:rPr>
              <a:t>3. Platform / R&amp;D center oriented with central concep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00000">
            <a:off x="1102320" y="5421960"/>
            <a:ext cx="1741320" cy="9525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5400000">
            <a:off x="2368440" y="5535360"/>
            <a:ext cx="1514520" cy="9525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5400000">
            <a:off x="3625200" y="5640120"/>
            <a:ext cx="1308240" cy="94932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5400000">
            <a:off x="4874040" y="5733360"/>
            <a:ext cx="1119240" cy="9522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00320" y="5808600"/>
            <a:ext cx="5991120" cy="351000"/>
          </a:xfrm>
          <a:custGeom>
            <a:avLst/>
            <a:gdLst>
              <a:gd name="textAreaLeft" fmla="*/ 0 w 5991120"/>
              <a:gd name="textAreaRight" fmla="*/ 5991480 w 59911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R&amp;D Center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00320" y="6562800"/>
            <a:ext cx="5991120" cy="133200"/>
          </a:xfrm>
          <a:custGeom>
            <a:avLst/>
            <a:gdLst>
              <a:gd name="textAreaLeft" fmla="*/ 0 w 5991120"/>
              <a:gd name="textAreaRight" fmla="*/ 5991480 w 599112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3360" y="5780160"/>
            <a:ext cx="888840" cy="834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51880" y="502452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69320" y="520236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12920" y="6189840"/>
            <a:ext cx="5991120" cy="350640"/>
          </a:xfrm>
          <a:custGeom>
            <a:avLst/>
            <a:gdLst>
              <a:gd name="textAreaLeft" fmla="*/ 0 w 5991120"/>
              <a:gd name="textAreaRight" fmla="*/ 5991480 w 59911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R&amp;D Center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-250200" y="3375720"/>
            <a:ext cx="5227920" cy="1121040"/>
          </a:xfrm>
          <a:custGeom>
            <a:avLst/>
            <a:gdLst>
              <a:gd name="textAreaLeft" fmla="*/ 0 w 5227920"/>
              <a:gd name="textAreaRight" fmla="*/ 5228280 w 5227920"/>
              <a:gd name="textAreaTop" fmla="*/ 0 h 1121040"/>
              <a:gd name="textAreaBottom" fmla="*/ 112140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59280" y="1378080"/>
            <a:ext cx="60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Minion"/>
              </a:rPr>
              <a:t>System Concept Group</a:t>
            </a: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 is responsible for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latform design, software principles and 3rd party SW integr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26320" y="3909960"/>
            <a:ext cx="76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earch center I based on first platform (e.g. IFX / Apo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ponsible for whole program around the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having own resources for prog.mgmt, HW,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67440" y="4950000"/>
            <a:ext cx="51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Research center II (e.g. Qualcomm / Br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621440" y="5383080"/>
            <a:ext cx="49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earch center III (e.g. TI / TTP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95160" y="5921280"/>
            <a:ext cx="23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xxx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3360" y="3129120"/>
            <a:ext cx="1508400" cy="375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ponsible for project execution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(= TTM, TT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46080" y="1322280"/>
            <a:ext cx="1995480" cy="1176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Minion"/>
              </a:rPr>
              <a:t>Process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Minion"/>
              </a:rPr>
              <a:t>Tools &amp;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Minion"/>
              </a:rPr>
              <a:t>Methodolog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Feedback 1st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D07-9CAC-4C43-8564-0F902C7EAA4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1357920" y="3625920"/>
            <a:ext cx="4727880" cy="1120680"/>
          </a:xfrm>
          <a:custGeom>
            <a:avLst/>
            <a:gdLst>
              <a:gd name="textAreaLeft" fmla="*/ 0 w 4727880"/>
              <a:gd name="textAreaRight" fmla="*/ 4728240 w 472788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29040" y="946080"/>
            <a:ext cx="72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System Concept Group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is responsible for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platform design, software principles and 3rd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SW integr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28040" y="406728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 based on first platform (e.g. IFX / Apox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 whole program around th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having own resources for prog.mgmt, HW, 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8960" y="5006880"/>
            <a:ext cx="63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I based on second platform (e.g. Qualcomm / Br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44600" y="5464080"/>
            <a:ext cx="54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based on third platform (e.g. TI / TTP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95160" y="5921280"/>
            <a:ext cx="23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xxx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60" y="4005360"/>
            <a:ext cx="1403640" cy="2225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project execution excel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(= TTM, T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49600" y="1851120"/>
            <a:ext cx="2539800" cy="15462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System Concepts 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SW 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Arial Unicode MS"/>
              </a:rPr>
              <a:t>3rd par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Arial Unicode MS"/>
              </a:rPr>
              <a:t>Pre-develop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 rot="5400000">
            <a:off x="2903760" y="3863160"/>
            <a:ext cx="4278240" cy="1120680"/>
          </a:xfrm>
          <a:custGeom>
            <a:avLst/>
            <a:gdLst>
              <a:gd name="textAreaLeft" fmla="*/ 0 w 4278240"/>
              <a:gd name="textAreaRight" fmla="*/ 4278600 w 427824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28040" y="406728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 based on first platform (e.g. IFX / Apox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 whole program around th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having own resources for prog.mgmt, HW, 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18960" y="5006880"/>
            <a:ext cx="63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I based on second platform (e.g. Qualcomm / Br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344600" y="5464080"/>
            <a:ext cx="54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based on third platform (e.g. TI / TTP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360" y="4005360"/>
            <a:ext cx="1403640" cy="2225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project execution excel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(= TTM, T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333600" y="2093760"/>
            <a:ext cx="2293920" cy="1825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Minion"/>
              </a:rPr>
              <a:t>Industrializ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Mech Design, Layout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Stack-up conc.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Assembly concept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Pro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324240" y="1177920"/>
            <a:ext cx="57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Industrialization Group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is responsible for all mechanical design, and the successful preparation for mass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5400000">
            <a:off x="4542120" y="4206240"/>
            <a:ext cx="3567240" cy="11206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6057360" y="4464000"/>
            <a:ext cx="3051360" cy="1120680"/>
          </a:xfrm>
          <a:custGeom>
            <a:avLst/>
            <a:gdLst>
              <a:gd name="textAreaLeft" fmla="*/ 0 w 3051360"/>
              <a:gd name="textAreaRight" fmla="*/ 3051720 w 305136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89080" y="2028960"/>
            <a:ext cx="607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System Test Groups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are th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for all product lines, and guarantee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quality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970680" y="28638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Minion"/>
              </a:rPr>
              <a:t>VAS Group</a:t>
            </a: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 for all accesso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328040" y="406728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 based on first platform (e.g. IFX / Apox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 whole program around th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having own resources for prog.mgmt, HW, 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18960" y="5006880"/>
            <a:ext cx="63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I based on second platform (e.g. Qualcomm / Br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44600" y="5464080"/>
            <a:ext cx="54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based on third platform (e.g. TI / TTP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360" y="4005360"/>
            <a:ext cx="1403640" cy="2225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project execution excel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(= TTM, T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03920" y="3079800"/>
            <a:ext cx="1017720" cy="6490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Minion"/>
              </a:rPr>
              <a:t>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Minion"/>
              </a:rPr>
              <a:t>Te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12160" y="3537000"/>
            <a:ext cx="939600" cy="3016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Minion"/>
              </a:rPr>
              <a:t>V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6560" y="295200"/>
            <a:ext cx="89470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is mean for R&amp;D organization char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845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848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76560" y="567684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1112760" y="2236680"/>
            <a:ext cx="28800" cy="444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1131480" y="5812920"/>
            <a:ext cx="204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1133640" y="627984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1134720" y="47430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1137960" y="52812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130040" y="66830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33360" y="5549760"/>
            <a:ext cx="117324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ethodo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193840" y="60436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05000" y="63532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35160" y="6053040"/>
            <a:ext cx="1173240" cy="4525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Concepts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236600" y="4473720"/>
            <a:ext cx="1173240" cy="5317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Industria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liz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239840" y="5072040"/>
            <a:ext cx="1173240" cy="3906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31920" y="6585120"/>
            <a:ext cx="1173240" cy="2808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821160" y="4002840"/>
            <a:ext cx="444996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5400000">
            <a:off x="3175200" y="4004280"/>
            <a:ext cx="4462200" cy="1124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MUC</a:t>
            </a:r>
            <a:br>
              <a:rPr sz="1300"/>
            </a:b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MA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1998360" y="4002120"/>
            <a:ext cx="445140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KL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5400000">
            <a:off x="4371480" y="4002120"/>
            <a:ext cx="4445280" cy="11239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TA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HS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U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2755440" y="3157200"/>
            <a:ext cx="972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 rot="10800000">
            <a:off x="2880360" y="375480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flipV="1" rot="10800000">
            <a:off x="2890800" y="419904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771280" y="424656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2765520" y="3807000"/>
            <a:ext cx="11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765520" y="3355200"/>
            <a:ext cx="11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 rot="10800000">
            <a:off x="2884320" y="3228840"/>
            <a:ext cx="5716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3844440" y="3155760"/>
            <a:ext cx="17640" cy="108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 rot="10800000">
            <a:off x="3969360" y="3613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 rot="10800000">
            <a:off x="3979800" y="405648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 rot="10800000">
            <a:off x="3979800" y="476136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860280" y="42451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3854520" y="3804480"/>
            <a:ext cx="109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854520" y="3354480"/>
            <a:ext cx="109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 rot="10800000">
            <a:off x="3972600" y="3164040"/>
            <a:ext cx="57132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021280" y="3164040"/>
            <a:ext cx="0" cy="14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 rot="10800000">
            <a:off x="5146560" y="362304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flipV="1" rot="10800000">
            <a:off x="5155200" y="4066200"/>
            <a:ext cx="5713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 rot="10800000">
            <a:off x="5155200" y="4567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035320" y="425376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028840" y="38149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028840" y="33624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 flipV="1" rot="10800000">
            <a:off x="5149800" y="317232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137280" y="3171960"/>
            <a:ext cx="0" cy="13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flipV="1" rot="10800000">
            <a:off x="6262560" y="363096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 rot="10800000">
            <a:off x="6271200" y="40755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 rot="10800000">
            <a:off x="6271200" y="45741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152760" y="42642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6146280" y="382284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6146280" y="337032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 rot="10800000">
            <a:off x="6265800" y="317988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 Dr. Yungchia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49400" y="22874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872800" y="3740040"/>
            <a:ext cx="598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4704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2820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246000" y="36273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 rot="10800000">
            <a:off x="2426040" y="4789440"/>
            <a:ext cx="43959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92440" y="484200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00160" y="481320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MD &amp; LPD: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62160" y="481320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Industr. &amp; Innov.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63960" y="4842000"/>
            <a:ext cx="1854360" cy="25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 rot="10800000">
            <a:off x="5168880" y="44978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9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 rot="10800000">
            <a:off x="6273720" y="44852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9244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92960" y="52117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7692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58960" y="52117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4432320"/>
            <a:ext cx="73407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50223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1401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6560" y="295200"/>
            <a:ext cx="89470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is mean for the platform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939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942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76560" y="567684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1112760" y="2236680"/>
            <a:ext cx="28800" cy="444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1131480" y="5812920"/>
            <a:ext cx="204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1133640" y="627984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1134720" y="47430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1137960" y="52812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flipV="1">
            <a:off x="1130040" y="66830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233360" y="5549760"/>
            <a:ext cx="117324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ethodo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93840" y="60436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05000" y="63532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35160" y="6053040"/>
            <a:ext cx="1173240" cy="4525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Concepts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236600" y="4473720"/>
            <a:ext cx="1173240" cy="5317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Industria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liz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840" y="5072040"/>
            <a:ext cx="1173240" cy="3906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31920" y="6585120"/>
            <a:ext cx="1173240" cy="2808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5400000">
            <a:off x="821160" y="4002840"/>
            <a:ext cx="444996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5400000">
            <a:off x="3175200" y="4004280"/>
            <a:ext cx="4462200" cy="1124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MUC</a:t>
            </a:r>
            <a:br>
              <a:rPr sz="1300"/>
            </a:b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MA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5400000">
            <a:off x="1998360" y="4002120"/>
            <a:ext cx="445140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KL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5400000">
            <a:off x="4371480" y="4002120"/>
            <a:ext cx="4445280" cy="11239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TA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HS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U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2755440" y="3157200"/>
            <a:ext cx="972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 rot="10800000">
            <a:off x="2880360" y="375480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 rot="10800000">
            <a:off x="2890800" y="419904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771280" y="424656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765520" y="3807000"/>
            <a:ext cx="11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2765520" y="3355200"/>
            <a:ext cx="11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 rot="10800000">
            <a:off x="2884320" y="3228840"/>
            <a:ext cx="5716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3844440" y="3155760"/>
            <a:ext cx="17640" cy="108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 flipV="1" rot="10800000">
            <a:off x="3969360" y="3613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 rot="10800000">
            <a:off x="3979800" y="405648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 rot="10800000">
            <a:off x="3979800" y="476136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3860280" y="42451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3854520" y="3804480"/>
            <a:ext cx="109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3854520" y="3354480"/>
            <a:ext cx="109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 rot="10800000">
            <a:off x="3972600" y="3164040"/>
            <a:ext cx="57132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021280" y="3164040"/>
            <a:ext cx="0" cy="14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 rot="10800000">
            <a:off x="5146560" y="362304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 rot="10800000">
            <a:off x="5155200" y="4066200"/>
            <a:ext cx="5713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 rot="10800000">
            <a:off x="5155200" y="4567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035320" y="425376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028840" y="38149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028840" y="33624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 rot="10800000">
            <a:off x="5149800" y="317232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137280" y="3171960"/>
            <a:ext cx="0" cy="13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 rot="10800000">
            <a:off x="6262560" y="363096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 rot="10800000">
            <a:off x="6271200" y="40755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 rot="10800000">
            <a:off x="6271200" y="45741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6152760" y="42642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146280" y="382284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146280" y="337032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 rot="10800000">
            <a:off x="6265800" y="317988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 Dr. Yungchia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049400" y="22874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2800" y="3740040"/>
            <a:ext cx="598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4704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2820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46000" y="36273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 rot="10800000">
            <a:off x="2426040" y="4789440"/>
            <a:ext cx="43959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92440" y="484200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00160" y="481320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MD &amp; LPD: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62160" y="481320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Industr. &amp; Innov.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63960" y="4842000"/>
            <a:ext cx="1854360" cy="25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 rot="10800000">
            <a:off x="5168880" y="44978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9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 rot="10800000">
            <a:off x="6273720" y="44852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69244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892960" y="52117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692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358960" y="52117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432320"/>
            <a:ext cx="73407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50223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61401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05160" y="3156120"/>
            <a:ext cx="1152360" cy="14191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9">
                <a:moveTo>
                  <a:pt x="3600" y="0"/>
                </a:moveTo>
                <a:arcTo wR="3600" hR="3600" stAng="16200000" swAng="-5400000"/>
                <a:lnTo>
                  <a:pt x="0" y="22999"/>
                </a:lnTo>
                <a:arcTo wR="3600" hR="3600" stAng="10800000" swAng="-5400000"/>
                <a:lnTo>
                  <a:pt x="18000" y="2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QUA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COM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649680" y="3156120"/>
            <a:ext cx="1152360" cy="14191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9">
                <a:moveTo>
                  <a:pt x="3600" y="0"/>
                </a:moveTo>
                <a:arcTo wR="3600" hR="3600" stAng="16200000" swAng="-5400000"/>
                <a:lnTo>
                  <a:pt x="0" y="22999"/>
                </a:lnTo>
                <a:arcTo wR="3600" hR="3600" stAng="10800000" swAng="-5400000"/>
                <a:lnTo>
                  <a:pt x="18000" y="2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SGo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Apo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43440" y="3156120"/>
            <a:ext cx="1152720" cy="14191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0">
                <a:moveTo>
                  <a:pt x="3600" y="0"/>
                </a:moveTo>
                <a:arcTo wR="3600" hR="3600" stAng="16200000" swAng="-5400000"/>
                <a:lnTo>
                  <a:pt x="0" y="22990"/>
                </a:lnTo>
                <a:arcTo wR="3600" hR="3600" stAng="10800000" swAng="-5400000"/>
                <a:lnTo>
                  <a:pt x="18000" y="265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eGo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Apo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24600" y="3156120"/>
            <a:ext cx="1152360" cy="14191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9">
                <a:moveTo>
                  <a:pt x="3600" y="0"/>
                </a:moveTo>
                <a:arcTo wR="3600" hR="3600" stAng="16200000" swAng="-5400000"/>
                <a:lnTo>
                  <a:pt x="0" y="22999"/>
                </a:lnTo>
                <a:arcTo wR="3600" hR="3600" stAng="10800000" swAng="-5400000"/>
                <a:lnTo>
                  <a:pt x="18000" y="2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QUA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COM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920" y="220320"/>
            <a:ext cx="823104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20520"/>
            <a:ext cx="40384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B &amp; YC completing communications plan (next week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B &amp; YC drafting org. announcement (next 8 day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Worldwide org announcement: EO Apri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gular meeting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R&amp;D Mgmt team (weekly); combined in 4-6 weeks; SB &amp; YC participating in about 2 week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OPC board (bi-weekly): Holger, Pat, Marcel to set up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R&amp;D functional review (monthly): Kai to set up; Wingens/Göttler to unify KPI reporting forma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cess Align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lign MEP / C / M model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Introduce V-Model as a referenc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(but develop „thin templates“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LM excellence extension to whole R&amp;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8320" y="920520"/>
            <a:ext cx="403848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rganization Changes and team set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ll worked out by „global line“ mgrs and CoC leaders within next 2 weeks; INCLUDING role descriptions, names, 3rd level mgm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rinciple for global line mgrs: „moderating not dictating“ with free information access/flo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Industrialization group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ysTest Asi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rocess, T&amp;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ystem Concep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Fit4Qualcomm“ Workshop (similar to „fit4Apoxi“ today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Lead Y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roposal together with Pascal Lefev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08000" y="165240"/>
            <a:ext cx="89596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Let‘s enterprise again - competition is tough, e.g. from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948120" y="1324080"/>
            <a:ext cx="5119560" cy="4789800"/>
            <a:chOff x="3948120" y="1324080"/>
            <a:chExt cx="5119560" cy="4789800"/>
          </a:xfrm>
        </p:grpSpPr>
        <p:graphicFrame>
          <p:nvGraphicFramePr>
            <p:cNvPr id="1039" name=""/>
            <p:cNvGraphicFramePr/>
            <p:nvPr/>
          </p:nvGraphicFramePr>
          <p:xfrm>
            <a:off x="3984480" y="1324080"/>
            <a:ext cx="5083200" cy="435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84480" y="1324080"/>
                      <a:ext cx="5083200" cy="435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1" name=""/>
            <p:cNvSpPr/>
            <p:nvPr/>
          </p:nvSpPr>
          <p:spPr>
            <a:xfrm>
              <a:off x="3948120" y="5715000"/>
              <a:ext cx="444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inland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           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43000" y="1057320"/>
            <a:ext cx="6761880" cy="5560920"/>
            <a:chOff x="243000" y="1057320"/>
            <a:chExt cx="6761880" cy="5560920"/>
          </a:xfrm>
        </p:grpSpPr>
        <p:sp>
          <p:nvSpPr>
            <p:cNvPr id="1043" name=""/>
            <p:cNvSpPr/>
            <p:nvPr/>
          </p:nvSpPr>
          <p:spPr>
            <a:xfrm>
              <a:off x="6004440" y="5705640"/>
              <a:ext cx="10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en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243000" y="1057320"/>
              <a:ext cx="3456000" cy="5560920"/>
              <a:chOff x="243000" y="1057320"/>
              <a:chExt cx="3456000" cy="5560920"/>
            </a:xfrm>
          </p:grpSpPr>
          <p:sp>
            <p:nvSpPr>
              <p:cNvPr id="1045" name=""/>
              <p:cNvSpPr txBox="1"/>
              <p:nvPr/>
            </p:nvSpPr>
            <p:spPr>
              <a:xfrm>
                <a:off x="368280" y="1057320"/>
                <a:ext cx="3330720" cy="556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32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BenQ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soldiers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never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sleep !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243000" y="1289160"/>
                <a:ext cx="1471680" cy="83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BUT:</a:t>
                </a:r>
                <a:endPara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216000" y="611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3178" fill="hold"/>
                                        <p:tgtEl>
                                          <p:spTgt spid="10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Q&amp;A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2058840" y="425520"/>
            <a:ext cx="505332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DCC-97A9-45A4-AF2A-9D1B5AC0AB77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Feedback from All-Hands-Meeting, 27-Jan-06 (Total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1006560"/>
            <a:ext cx="8642160" cy="4006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720" y="4941720"/>
            <a:ext cx="92404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about 28% responses on feedback question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WRO and AAL the most positive sites; almost 80% feedback quote from 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information was too much (deliberately for this first meeting; will be reduc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presentation layout needs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Audio &amp; Video needs big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92E5-792B-441B-A4FE-276B44A20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Feedback from All-Hands-Meeting, 27-Jan-06 (Total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1253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60360" y="1598760"/>
            <a:ext cx="8820000" cy="35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7457-323D-424E-ABE5-3881BE662E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BenQ Highligh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D5A-FDE8-4597-9288-678F2F3669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6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237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239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244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253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3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274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277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280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283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287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291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294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295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7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299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302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305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308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318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321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009880" y="-512280"/>
            <a:ext cx="4388760" cy="7368480"/>
            <a:chOff x="2009880" y="-512280"/>
            <a:chExt cx="4388760" cy="736848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2009880" y="282240"/>
              <a:ext cx="4388760" cy="65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256120" y="-512280"/>
              <a:ext cx="3893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4-05T08:34:16Z</dcterms:modified>
  <cp:revision>401</cp:revision>
  <dc:subject/>
  <dc:title>PowerPoint 簡報</dc:title>
</cp:coreProperties>
</file>